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8BEA-1A8E-45B0-8A89-B18DDFDA0418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рение – бесценный 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207F-B363-4FAD-82D9-EFBA181A2874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ук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е определение понятия глаукомы заключается в том, что этот термин объединяет большую группу заболеваний глаза, характеризующуюся постоянным или периодическим повышением внутриглазного давления, из-за нарушения оттока водянистой влаги из глаза. Последствием повышения давления является развитие характерных для глаукомы нарушений зрительных функций и атрофии зрительного нер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16EC-0D88-457E-85EC-A9508A6DDE07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екционные заболевания г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ьюктив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оспаление слизистой оболочки глаза при попадании в нее микробов, грибков, вирусов. Иногда коньюктивит называют еще "кроличьи глаза". Это связано с тем, что болезнь часто сопровождается покраснением 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ют бактериальную, вирусную и аллергическую форму коньюктивита. При бактериальной форме обычно инфицируются оба глаза и сопровождается обильным выделением слизи. Вирусная форма, как правило, поражает один глаз и сопровождается слезливостью и легкими выделениями. Обе эти формы болезни очень заразные и легко передаются при контакте с бо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3327-6AA6-4805-9EEC-3FD3DA08C876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нарушений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расстояние от глаз до книги или компьютерного мони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итайте в движущемся транспорте и л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освещенностью помещения в котором вы работ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регайте глаза при работе с опасными веществами защитными оч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рите глаза грязны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длительной работе давайте глазам отдых, выполняйте гимнастику для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4FA2-FC7B-4CC1-BB6D-BDEF3AEDFF79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имнастика для глаз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олнять сидя или стоя, с максимальной амплитудой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1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ь глаза, сильно напрягая глазные мыщцы, на счет 1-4, затем раскрыть глаза, расслабить мышцы глаз, посмотреть вдаль через окно на счет 1-6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2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-4, затем посмотреть вдаль прямо на счет 1-6. Аналогичным образом проводятся упражнения, но с фиксацией взгляда влево, вверх и вниз. Повторить 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3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лову держать прямо. Поморгать, не напрягая глазные мышцы, на счет 10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4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нести взгляд быстро по диагонали: направо вверх - налево вниз, потом прямо вдаль на счет 1-6, затем налево вверх - направо вниз и посмотреть вдаль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5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ь глаза, не напрягая глазные мышцы на счет 1-4, широко раскрыть глаза и посмотреть вдаль на счет 1-6. Повторить 2-3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6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 (голова прямо), делать медленно круговые движения глазами вверх-вправо-вниз-влево и в обратную сторону: вверх-влево-вниз-вправо. Затем посмотреть вдаль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7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неподвижной голове перевести взор с фиксацией его на счет 1-4 вверх, на счет 1-6 прямо, после чего аналогичным образом вниз-прямо, вправо-прямо, влево-прямо. Проделать движение по диагонали в одну и другую стороны с переводом глаз прямо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288F-E66A-4041-9907-746FC014C02A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распространения инфекций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уйтесь только своим полотенцем и наволоч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чески мойте руки, особенно если вы касаетесь гла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есть возможность, не ходите в общественные места, в школу, на раб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давайте хлорке попасть в глаза. Она усугубит ваше состояние. Поэтому избегайте общественных бассейнов и хлорированной воды в водопров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8801-452A-4CB9-A1E0-20CC12896588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я офтальм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тослав Николаевич Фед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927-2000) – один из основателей отечественной офтальмологии. Разработал ряд выдающихся методов микрохирургии глаза. Благодаря разработкам великого хирурга многие люди обретают утраченное з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FB77-15C6-46FC-AC03-261A623BA188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 из многочисленных центров микрохирургии глаза им. С.Федо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3A2B-C8A3-4D99-9686-A745530F08A0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ушения зрения могут быть наследственными и приобретенными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сохранения здоровья глаз необходимо соблюдать правила гигиены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стижения отечественной и мировой офтальмологии способствуют успешному лечению заболеваний органов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0F6F-8956-4F7C-8625-4CA349526D6B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ru.wikip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gl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olch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tatic.baza.farpos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img-2006-01.photosigh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hrus3.hoter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rikol.i.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rikol.i.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otvet.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guru.sevstar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dic.academic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30D2-5082-405A-84EF-B41D8DBDA24C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ить причины нарушения функций органа зрения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наиболее известные заболевания органов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15BF-A8C1-410F-86D0-DBD6334B5653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ные системы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82EA-FB66-42FB-92D2-6D4CFE1ABCA1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человеческого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03F2-63B8-456B-B77E-31515B8602AC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арушения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гигиены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14E3-364D-4583-9414-FB7368805DF1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аккомо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орукость или миопия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BF6C-03E8-4E09-9EDA-033701F46B79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аккомо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орукость или миопия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612C-3B9B-45AE-AE03-99CA8F46FC0B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ракта – помутнение хрусталика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й, наиболее верный путь избавления от катаракты - это хирургический, который сегодня усовершенствован до такой степени, что операцию можно проводить даже в амбулаторных услов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DF13-2755-42FA-9E6F-47088DB22DB2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3D6-D18A-47AD-B9D8-441B4D80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A276-17CF-4759-ACD2-838FA4B5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4CE-E4AD-466A-B10C-3BBE9327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D6E6-10DD-4C96-AE32-C93AACB6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1E9B-0ECE-446C-A22C-B2B87BFA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5D9A-A008-4D5A-831D-0F702520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E2A9-6D19-4417-9E51-684ADA3C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1199-13DC-4ABB-A137-0A7F77CC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A081-2E10-4A20-ABCB-8177422B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FBC3-A5E5-464B-B3D8-DF761E1F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11DA-F3C2-4E2F-BB8B-718F4B16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84A2-7492-4E7D-A57C-B99A940F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B7F1-75E6-43C4-BBCC-FC65882F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90BB-D034-4C9A-997F-40C85C9D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51AC-99FD-4B79-B194-3E6A1D04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97E1-1CE7-488C-BCB4-487EDE83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8821-0FEE-4B84-8775-19E6FD17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8F7B-DDB3-4BE1-B6F9-FA866082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49F-D912-4A4B-A55C-84858FD3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6C9-AC0F-475F-8E45-28BA0F1B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B16-4D3F-4622-A0D9-3385E438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4F5-5D18-4B45-8EC1-37D04787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1BB-BF02-4C10-8FAB-9B8FBCFF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B3E2-A45C-48EC-8E5D-59781542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3B4D-F20D-4990-A56D-9BDCA5034BC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D447-7379-4FF8-BA9F-3C456A274A2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рение – бесценный да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771640" y="907920"/>
            <a:ext cx="4033800" cy="3251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547640" y="4292640"/>
            <a:ext cx="6553440" cy="10598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езентация группы «офтальмологов»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Руководитель: Лебедева Екатерина Анатольевна, учитель биологи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лауко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08000" y="1484280"/>
            <a:ext cx="8928000" cy="201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адиционное определение понятия глаукомы заключается в том, что этот термин объединяет большую группу заболеваний глаза, характеризующуюся постоянным или периодическим повышением внутриглазного давления, из-за нарушения оттока водянистой влаги из глаза. Последствием повышения давления является развитие характерных для глаукомы нарушений зрительных функций и атрофии зрительного нерв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3888000" cy="26035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нфекционные заболевания глаз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ьюктиви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воспаление слизистой оболочки глаза при попадании в нее микробов, грибков, вирусов. Иногда коньюктивит называют еще "кроличьи глаза". Это связано с тем, что болезнь часто сопровождается покраснением ве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личают бактериальную, вирусную и аллергическую форму коньюктивита. При бактериальной форме обычно инфицируются оба глаза и сопровождается обильным выделением слизи. Вирусная форма, как правило, поражает один глаз и сопровождается слезливостью и легкими выделениями. Обе эти формы болезни очень заразные и легко передаются при контакте с больным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филактика нарушений зре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4360" y="1413000"/>
            <a:ext cx="799128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ледите за расстояние от глаз до книги или компьютерного монитор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е читайте в движущемся транспорте и леж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ледите за освещенностью помещения в котором вы работаете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Оберегайте глаза при работе с опасными веществами защитными очкам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е трите глаза грязными рукам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и длительной работе давайте глазам отдых, выполняйте гимнастику для глаз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Гимнастика для глаз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ыполнять сидя или стоя, с максимальной амплитудой глаз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1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рыть глаза, сильно напрягая глазные мыщцы, на счет 1-4, затем раскрыть глаза, расслабить мышцы глаз, посмотреть вдаль через окно на счет 1-6. Повторить 4-5 раз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2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оворачивая головы, посмотреть направо и зафиксировать взгляд на счет 1-4, затем посмотреть вдаль прямо на счет 1-6. Аналогичным образом проводятся упражнения, но с фиксацией взгляда влево, вверх и вниз. Повторить 2 раз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3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олову держать прямо. Поморгать, не напрягая глазные мышцы, на счет 10-15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4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еренести взгляд быстро по диагонали: направо вверх - налево вниз, потом прямо вдаль на счет 1-6, затем налево вверх - направо вниз и посмотреть вдаль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5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рыть глаза, не напрягая глазные мышцы на счет 1-4, широко раскрыть глаза и посмотреть вдаль на счет 1-6. Повторить 2-3 раз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6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оворачивая головы (голова прямо), делать медленно круговые движения глазами вверх-вправо-вниз-влево и в обратную сторону: вверх-влево-вниз-вправо. Затем посмотреть вдаль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7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 неподвижной голове перевести взор с фиксацией его на счет 1-4 вверх, на счет 1-6 прямо, после чего аналогичным образом вниз-прямо, вправо-прямо, влево-прямо. Проделать движение по диагонали в одну и другую стороны с переводом глаз прямо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филактика распространения инфекций глаз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39640" y="1208880"/>
            <a:ext cx="784872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ьзуйтесь только своим полотенцем и наволочкой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тически мойте руки, особенно если вы касаетесь глаз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есть возможность, не ходите в общественные места, в школу, на работу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давайте хлорке попасть в глаза. Она усугубит ваше состояние. Поэтому избегайте общественных бассейнов и хлорированной воды в водопроводе.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стижения офтальмолог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621240" cy="4176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516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716360" y="1557360"/>
            <a:ext cx="4176720" cy="270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ятослав Николаевич Федоров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1927-2000) – один из основателей отечественной офтальмологии. Разработал ряд выдающихся методов микрохирургии глаза. Благодаря разработкам великого хирурга многие люди обретают утраченное зрение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дин из многочисленных центров микрохирургии глаза им. С.Федоров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826920" y="1441440"/>
            <a:ext cx="7488360" cy="54165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арушения зрения могут быть наследственными и приобретенными.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ля сохранения здоровья глаз необходимо соблюдать правила гигиены зрения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остижения отечественной и мировой офтальмологии способствуют успешному лечению заболеваний органов зр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ованные ресур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ru.wikipedia.or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www.google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wolcha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static.baza.farpost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img-2006-01.photosight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shrus3.hoter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prikol.i.u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prikol.i.u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otvet.mail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guru.sevstar.ne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dic.academic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исследов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становить причины нарушения функций органа зрения человека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смотреть наиболее известные заболевания органов зрения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Защитные системы глаз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896240" cy="42606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роение человеческого глаз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272360" cy="45464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чины нарушения зр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Травмы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рушение гигиены зрения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Инфекционные заболевания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рушения аккомод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60720" cy="24051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4788000" y="4076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50920" y="3981240"/>
            <a:ext cx="374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лизорук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оп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рушения аккомод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60720" cy="2405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4788000" y="4076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50920" y="3981240"/>
            <a:ext cx="374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лизорук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оп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стигмат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5" descr="astigmatizm"/>
          <p:cNvPicPr/>
          <p:nvPr/>
        </p:nvPicPr>
        <p:blipFill>
          <a:blip r:embed="rId1"/>
          <a:stretch/>
        </p:blipFill>
        <p:spPr>
          <a:xfrm>
            <a:off x="1116000" y="1495440"/>
            <a:ext cx="6624720" cy="3138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1332000" y="4869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стигматизм - это самая частая причина низкого зрения, часто сопровождающая близорукость или дальнозоркость. Его причиной является неправильная форма роговицы, что исправляется очками, контактными линзами или рефракционной хирурги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атаракта – помутнение хрусталика глаз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95604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4716360" y="1600200"/>
            <a:ext cx="3970440" cy="250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96108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539640" y="4292640"/>
            <a:ext cx="799308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Единственный, наиболее верный путь избавления от катаракты - это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хирургический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который сегодня усовершенствован до такой степени, что операцию можно проводить даже в амбулаторных условиях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7:08:39Z</dcterms:created>
  <dc:creator>Admin</dc:creator>
  <dc:description/>
  <dc:language>en-US</dc:language>
  <cp:lastModifiedBy>LEGION</cp:lastModifiedBy>
  <dcterms:modified xsi:type="dcterms:W3CDTF">2014-11-07T12:40:45Z</dcterms:modified>
  <cp:revision>10</cp:revision>
  <dc:subject/>
  <dc:title>Слайд 1</dc:title>
</cp:coreProperties>
</file>